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D1E9-D2FC-4151-97FE-CECF2DCD1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4FD3-A767-4F97-8CBD-A3EE400B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A65F-EF28-44EA-A0C5-EFE7747FB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DA6F-EF9F-4E44-8EDA-0489E29B0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15D4-D486-4701-A9C1-6F5F0C46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BA1C-B2F0-4726-AC75-2A6BE891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2E6D-4577-43B4-AA5C-ED6C00FD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D507-962C-437B-9B82-B7352F56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C887-22EC-4E63-88AF-39E6EEC0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39E0-7F2A-417F-AFE2-8609CEFA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B29C-4C63-43E4-9158-65B16419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B0F1-F373-4237-B685-2534DE7E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3195-4E59-493A-8AE3-1B328C978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Narrow"/>
              </a:rPr>
              <a:t>Prayer of Adoration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We praise you, O Go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humility, you seek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mercy, you keep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humiliation, you glorify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1 of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generosit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 provide for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wisdom, you place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might, you shield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2 of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governanc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 make us ho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communion, you teach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love, you lift us u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Based on </a:t>
            </a:r>
            <a:r>
              <a:rPr b="0" i="1" lang="en-US" sz="2400" spc="-1" strike="noStrike">
                <a:solidFill>
                  <a:srgbClr val="bbe0e3"/>
                </a:solidFill>
                <a:latin typeface="Arial"/>
              </a:rPr>
              <a:t>T</a:t>
            </a:r>
            <a:r>
              <a:rPr b="0" i="1" lang="en-US" sz="2400" spc="-1" strike="noStrike">
                <a:solidFill>
                  <a:srgbClr val="bbe0e3"/>
                </a:solidFill>
                <a:latin typeface="Arial"/>
              </a:rPr>
              <a:t>he Nine Choirs: How They Sing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by Mechtild of Magdeburg (1210-128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3 of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24:36Z</dcterms:created>
  <dc:creator>Anon Anon</dc:creator>
  <dc:description/>
  <dc:language>en-US</dc:language>
  <cp:lastModifiedBy>Anon Anon</cp:lastModifiedBy>
  <dcterms:modified xsi:type="dcterms:W3CDTF">2005-08-09T05:45:24Z</dcterms:modified>
  <cp:revision>8</cp:revision>
  <dc:subject/>
  <dc:title>PowerPoint Presentation</dc:title>
</cp:coreProperties>
</file>